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271-2200-4B43-9AD1-62AC6929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48F-DCD9-4661-9CD2-648D5753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361-F314-431A-A31A-B2AEBDC8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019-4CC9-4C7A-882B-DCE39687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628-8EE8-465B-989B-3D7C5263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249-2E4F-4938-B414-6A5F9E3F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CEC-461D-4F16-BB97-B6B8644A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D6C5-AC27-4068-A7D2-F4F011DA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D1D0-3C3C-44DB-9EDF-38C6B5A8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954-6672-48DA-9E6C-BE361813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987-755B-4FAE-9E6E-34D83456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8581-C933-4C6F-87FA-EB3C9B6E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38CC-9E43-4574-80C4-A8764AF65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roblem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is analyzed and found to contain 25.9% Nitrogen and 74.1% Oxygen. What is the empiric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1532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75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.9 g N x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mol 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.85 mol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0 g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4.1 g O x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mol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4.63 mol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0 g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447920" y="167616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352680" y="22860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447920" y="34290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429000" y="39621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29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625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8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85        1.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296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400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4582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050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7240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425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9:07:14Z</dcterms:created>
  <dc:creator>Richland School District Two</dc:creator>
  <dc:description/>
  <dc:language>en-US</dc:language>
  <cp:lastModifiedBy>Carolyn</cp:lastModifiedBy>
  <dcterms:modified xsi:type="dcterms:W3CDTF">2009-05-25T22:09:45Z</dcterms:modified>
  <cp:revision>3</cp:revision>
  <dc:subject/>
  <dc:title>Sample Problem 1</dc:title>
</cp:coreProperties>
</file>